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2929-4694-4775-B4CC-6B02B112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A5F1-B3C9-4D6E-AB00-B65F0819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1C98-5557-470B-B66E-CCF7D88B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7918-7525-4276-84CA-5A7C1FFA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1501-03AC-455B-B10A-03ED7B49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C2CB-9EF9-4702-912B-872F73F5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33CA-67A4-4C51-B965-1325FAA6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E331-2DC5-42D6-9F8E-7DC70030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C93D-410C-4805-814F-8297CDD8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6031-814A-4822-B193-A43448CF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EF70-3748-4EDB-A040-92DAD7D8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43E-8925-4141-B3BC-894CA774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0D96-E175-4FF6-8BBA-3410F5F2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808A-E654-47AE-9A19-083D9B27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247F-2E53-419C-BE41-6D6CC1E9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690E-7B6F-464B-8EF0-F67BDF8E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9FBF-9C5E-4569-9FA8-3318268E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7A9-5432-40BD-A060-1E1F4D56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CF29-5EF5-494C-997C-CFAAE886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B1E7-9C8C-49EB-B217-5CFAC480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FC5B-9403-4F52-8A39-1D140363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1B47-91AD-481A-A0EF-6B938F83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AD7B-3C0D-4CEE-9B46-423F3EDC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0412-CC0B-42EF-8998-164E1C90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721C-5532-4F2B-8568-21EC8AE5B4D6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8E6A-8AC5-4FD5-9ED6-5E119B4B6CCC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0920" y="242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PORÓWNYWANIE 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UŁAMKÓW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O TYCH SAMYCH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LICZNIK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KŁA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6640" y="967680"/>
            <a:ext cx="80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abcia Marzeny lubi piec ciasta. Przygotowała dwie rolady. Jedną z makiem, a drugą z bitą śmietaną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6640" y="162972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jome zjadł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546280" y="1628640"/>
                <a:ext cx="2160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662360" y="1584360"/>
                <a:ext cx="152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2725560" y="1627920"/>
            <a:ext cx="20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ady z makiem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42000" y="1627920"/>
            <a:ext cx="37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ady z bitą śmietan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1988280"/>
            <a:ext cx="37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órej rolady zjedzono więcej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11280" y="2708280"/>
          <a:ext cx="30164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2708280"/>
                    <a:ext cx="3016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157720" y="2708280"/>
          <a:ext cx="2992680" cy="22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57720" y="2708280"/>
                    <a:ext cx="299268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646280" y="2437200"/>
            <a:ext cx="166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Rolada z maki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46640" y="2392920"/>
            <a:ext cx="23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Rolada z bitą śmietan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32000" y="5272920"/>
            <a:ext cx="52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ęcej zjedzono rolady z bitą śmietaną, za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7000" y="5634000"/>
          <a:ext cx="1620720" cy="96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7000" y="5634000"/>
                    <a:ext cx="16207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586640" y="3924360"/>
          <a:ext cx="539640" cy="96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86640" y="3924360"/>
                    <a:ext cx="53964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986280" y="3924360"/>
          <a:ext cx="541440" cy="96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86280" y="3924360"/>
                    <a:ext cx="54144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KŁA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6640" y="1104120"/>
            <a:ext cx="52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Zuzanna i Ola jadły torciki lodowe. Zuzia zjadł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46640" y="1088280"/>
            <a:ext cx="26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rciku lodowego, a O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41280" y="1493280"/>
            <a:ext cx="54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óra z dziewczynek zjadła większą część tor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2000" y="46425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ęcej torciku zjadła Ola, za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967360" y="954000"/>
                <a:ext cx="2095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8596440" y="998640"/>
                <a:ext cx="261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7" name="" descr=""/>
          <p:cNvPicPr/>
          <p:nvPr/>
        </p:nvPicPr>
        <p:blipFill>
          <a:blip r:embed="rId1"/>
          <a:srcRect l="14354" t="13739" r="21254" b="18131"/>
          <a:stretch/>
        </p:blipFill>
        <p:spPr>
          <a:xfrm>
            <a:off x="2141640" y="2124000"/>
            <a:ext cx="4498920" cy="177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5562720" y="3743280"/>
          <a:ext cx="304560" cy="63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3743280"/>
                    <a:ext cx="3045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906640" y="3743280"/>
          <a:ext cx="28260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06640" y="3743280"/>
                    <a:ext cx="2826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716280" y="5229360"/>
          <a:ext cx="1395360" cy="915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16280" y="5229360"/>
                    <a:ext cx="139536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46280" y="1314360"/>
            <a:ext cx="7993080" cy="3376800"/>
            <a:chOff x="746280" y="1314360"/>
            <a:chExt cx="7993080" cy="3376800"/>
          </a:xfrm>
        </p:grpSpPr>
        <p:sp>
          <p:nvSpPr>
            <p:cNvPr id="137" name=""/>
            <p:cNvSpPr/>
            <p:nvPr/>
          </p:nvSpPr>
          <p:spPr>
            <a:xfrm>
              <a:off x="2044800" y="1654560"/>
              <a:ext cx="516888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Z dwóch ułamków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o tych samych licznikac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en jest większy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który ma mniejsz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mianownik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46280" y="1314360"/>
              <a:ext cx="7993080" cy="3376800"/>
            </a:xfrm>
            <a:prstGeom prst="ellipse">
              <a:avLst/>
            </a:prstGeom>
            <a:noFill/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6640" y="1088280"/>
            <a:ext cx="40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konując rysunek porównaj ułamk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0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511280" y="1943280"/>
                <a:ext cx="1373040" cy="23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i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PORÓWNYWANIE UŁAMKÓW O RÓŻNYCH MIANOWNIK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6280" y="954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6280" y="1132920"/>
            <a:ext cx="81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 porównywaniu ułamków korzystamy ze znanej nam już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tody „na krzyż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0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2000" y="171864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ównaj ułamk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771640" y="1584360"/>
                <a:ext cx="711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i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1" name=""/>
          <p:cNvGraphicFramePr/>
          <p:nvPr/>
        </p:nvGraphicFramePr>
        <p:xfrm>
          <a:off x="3176640" y="2390760"/>
          <a:ext cx="180000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6640" y="2390760"/>
                    <a:ext cx="1800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1198080" y="3584520"/>
            <a:ext cx="693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· 13 = 15 ·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1 = 1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1 &lt; 1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· 13 = 15 · 9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w większym iloczynie szukamy licznika ułam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· 13 &lt; 15 ·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511280" y="5273640"/>
                <a:ext cx="9223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771640" y="5407920"/>
            <a:ext cx="45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łamek o znalezionym liczniku jest więks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46280" y="1314360"/>
            <a:ext cx="7993080" cy="3376800"/>
            <a:chOff x="746280" y="1314360"/>
            <a:chExt cx="7993080" cy="3376800"/>
          </a:xfrm>
        </p:grpSpPr>
        <p:sp>
          <p:nvSpPr>
            <p:cNvPr id="160" name=""/>
            <p:cNvSpPr/>
            <p:nvPr/>
          </p:nvSpPr>
          <p:spPr>
            <a:xfrm>
              <a:off x="2066400" y="1899000"/>
              <a:ext cx="51260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orównując ułamki 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różnych mianownikach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tosujemy metodę</a:t>
              </a:r>
              <a:br>
                <a:rPr sz="3200"/>
              </a:b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 mnożenia „na krzyż”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280" y="1314360"/>
              <a:ext cx="7993080" cy="3376800"/>
            </a:xfrm>
            <a:prstGeom prst="ellipse">
              <a:avLst/>
            </a:prstGeom>
            <a:noFill/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39:39Z</dcterms:modified>
  <cp:revision>55</cp:revision>
  <dc:subject/>
  <dc:title>Slajd 1</dc:title>
</cp:coreProperties>
</file>